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86DA-568E-4F29-95D0-7C27A43FB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48F8-1B4B-4F3B-A010-7CB060F52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D65E-5004-4DC3-BBDC-50E114DA9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B7E6-5FE1-4D97-B3BC-8B57B7B36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6190-A4AE-4729-AFFD-61D1F697A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DE2C-9D79-4DF0-9AE1-9CC949EEF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034E-3FCA-49B0-89D0-9AC8E9E8F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1860-EB13-4B0F-A49B-81E990025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D04F-B22A-4EDF-BB97-3171F1D1C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9A72-787D-413B-BE48-BCF8F3A34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2347-0E9D-47F0-98AF-64AC3F97D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20FF-A7A9-4C45-A871-89E4D176E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160E6-43BC-429E-A927-F878B4B07F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ph.images.search.yahoo.com/search/images;_ylt=Axt7wmNOqmlQTkcAGSOzRwx.?p=kids+picture&amp;fr=chr-greentree_gc&amp;fr2=piv-web" TargetMode="External"/><Relationship Id="rId2" Type="http://schemas.openxmlformats.org/officeDocument/2006/relationships/hyperlink" Target="http://ph.search.yahoo.com/search?fr=chr-greentree_gc&amp;ei=utf-8&amp;ilc=12&amp;type=937811&amp;p=IMAGES" TargetMode="External"/><Relationship Id="rId3" Type="http://schemas.openxmlformats.org/officeDocument/2006/relationships/hyperlink" Target="http://ph.search.yahoo.com/search?fr=chr-greentree_gc&amp;ei=utf-8&amp;ilc=12&amp;type=937811&amp;p=IMAGES" TargetMode="External"/><Relationship Id="rId4" Type="http://schemas.openxmlformats.org/officeDocument/2006/relationships/hyperlink" Target="http://ph.search.yahoo.com/search?fr=chr-greentree_gc&amp;ei=utf-8&amp;ilc=12&amp;type=937811&amp;p=IMAGES" TargetMode="External"/><Relationship Id="rId5" Type="http://schemas.openxmlformats.org/officeDocument/2006/relationships/hyperlink" Target="http://ph.search.yahoo.com/search?fr=chr-greentree_gc&amp;ei=utf-8&amp;ilc=12&amp;type=937811&amp;p=IMAGES" TargetMode="External"/><Relationship Id="rId6" Type="http://schemas.openxmlformats.org/officeDocument/2006/relationships/hyperlink" Target="http://ph.search.yahoo.com/search?fr=chr-greentree_gc&amp;ei=utf-8&amp;ilc=12&amp;type=937811&amp;p=IMAGES" TargetMode="External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320" y="91440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gent Orange"/>
              </a:rPr>
              <a:t>Loop Learning prescho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eacher Maraye B. Madria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vel 2- Matulun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chool year 2012-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05120" y="4495680"/>
            <a:ext cx="53337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Goals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Value their families and the people around th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Count and recognize numb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Demonstrate speaking, listening, writing and rea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Interact and respect each other in the commun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086600" y="152280"/>
            <a:ext cx="182880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athema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Number n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More and 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Equivalent and non-equivalent 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Simple addition and subt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Sequen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Ordinal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867280" y="3886200"/>
            <a:ext cx="31244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6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1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6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1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6" dur="2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1" dur="2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Alphabet sequencing (A-Z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Col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Sha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Sentence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Oppo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Prepo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105520" y="2819520"/>
            <a:ext cx="35049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2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Sc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5 se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Wea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Parts of the pl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Parts of the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Zoo and farm an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Vegetables and fru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029200" y="1981080"/>
            <a:ext cx="38862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4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9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4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Social Stud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Fam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Car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Emotions and Relation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Community help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Spiritual belie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Social Responsi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257800" y="3886200"/>
            <a:ext cx="363204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00"/>
                </a:solidFill>
                <a:latin typeface="Arial"/>
              </a:rPr>
              <a:t>“</a:t>
            </a:r>
            <a:r>
              <a:rPr b="1" lang="en-US" sz="4000" spc="-1" strike="noStrike">
                <a:solidFill>
                  <a:srgbClr val="99cc00"/>
                </a:solidFill>
                <a:latin typeface="Arial"/>
              </a:rPr>
              <a:t>Tell if you know, ask if you don't.”</a:t>
            </a:r>
            <a:br>
              <a:rPr sz="4000"/>
            </a:br>
            <a:r>
              <a:rPr b="1" i="1" lang="en-US" sz="4000" spc="-1" strike="noStrike">
                <a:solidFill>
                  <a:srgbClr val="99cc00"/>
                </a:solidFill>
                <a:latin typeface="Arial"/>
              </a:rPr>
              <a:t>- Duane Alan Hah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35053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90720" y="3048120"/>
            <a:ext cx="73152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ph.images.search.yahoo.com/search/images;_ylt=Axt7wmNOqmlQTkcAGSOzRwx.?p=kids+picture&amp;fr=chr-greentree_gc&amp;fr2=piv-we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h.search.yahoo.com/search?fr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=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chr-greentree_gc&amp;ei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=utf-8&amp;ilc=12&amp;type=937811&amp;p=IMAG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02:22:36Z</dcterms:created>
  <dc:creator>madrid</dc:creator>
  <dc:description/>
  <dc:language>en-US</dc:language>
  <cp:lastModifiedBy>madrid</cp:lastModifiedBy>
  <dcterms:modified xsi:type="dcterms:W3CDTF">2012-10-01T14:36:36Z</dcterms:modified>
  <cp:revision>7</cp:revision>
  <dc:subject/>
  <dc:title>Loop Learning preschoo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